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E6D-EBB2-4350-A7E9-91651B8B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3D6E-26D9-42E7-8BDC-A598935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2AF-348B-402D-96B9-8F42F023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CFF-C164-4532-8B3C-99C5F58D6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B17-EB48-4CA2-8EC4-BE5ED846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A1A-BD44-4C7A-8D97-2CFA8DD0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14-DFDB-4E07-A839-25FC8645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86D-AFAB-47CF-A4CA-2A0604B4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BCA-792C-41EC-85A3-8BFAA5CE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495-C645-4309-866A-B5394A1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C63D-C112-4A64-8864-9ED2BE6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D5C-5F2E-4AA5-8485-89F6B556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6C97-17C5-42D5-B522-1B67D0EC7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lfgang Sach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uchen ist nicht gut fur deine Gesundheit.  Du musst gesund blei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photo07"/>
          <p:cNvPicPr/>
          <p:nvPr/>
        </p:nvPicPr>
        <p:blipFill>
          <a:blip r:embed="rId1"/>
          <a:stretch/>
        </p:blipFill>
        <p:spPr>
          <a:xfrm>
            <a:off x="2666880" y="1828800"/>
            <a:ext cx="39718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finde es prima dass du Lauft jeden 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01_Usain-Bolt"/>
          <p:cNvPicPr/>
          <p:nvPr/>
        </p:nvPicPr>
        <p:blipFill>
          <a:blip r:embed="rId1"/>
          <a:stretch/>
        </p:blipFill>
        <p:spPr>
          <a:xfrm>
            <a:off x="533520" y="1655640"/>
            <a:ext cx="8001000" cy="444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981080" y="62485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981080" y="624852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s ist Wolfga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esse viel Obst und Gemüse fur mein 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00406162941-large.jpg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fe für 7 Stunden Jeden Ta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Content Placeholder 3" descr="th__Baby_Pillow.jpg"/>
          <p:cNvPicPr/>
          <p:nvPr/>
        </p:nvPicPr>
        <p:blipFill>
          <a:blip r:embed="rId1"/>
          <a:stretch/>
        </p:blipFill>
        <p:spPr>
          <a:xfrm>
            <a:off x="1806480" y="1874880"/>
            <a:ext cx="55087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Gymnastiks machen jeden T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Stretches-Images.jpg"/>
          <p:cNvPicPr/>
          <p:nvPr/>
        </p:nvPicPr>
        <p:blipFill>
          <a:blip r:embed="rId1"/>
          <a:stretch/>
        </p:blipFill>
        <p:spPr>
          <a:xfrm>
            <a:off x="1425600" y="1947960"/>
            <a:ext cx="60418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kann manchmal Shokolade es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ch kann nicht entspannen, weil ich sehr beschäftigt b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3:48Z</dcterms:created>
  <dc:creator>CUSD220</dc:creator>
  <dc:description/>
  <dc:language>en-US</dc:language>
  <cp:lastModifiedBy> </cp:lastModifiedBy>
  <dcterms:modified xsi:type="dcterms:W3CDTF">2012-03-01T03:16:41Z</dcterms:modified>
  <cp:revision>6</cp:revision>
  <dc:subject/>
  <dc:title>Gesundheit!!</dc:title>
</cp:coreProperties>
</file>